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6.jpeg" ContentType="image/jpeg"/>
  <Override PartName="/ppt/media/image5.wmf" ContentType="image/x-wmf"/>
  <Override PartName="/ppt/media/image11.png" ContentType="image/png"/>
  <Override PartName="/ppt/media/image7.jpeg" ContentType="image/jpeg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EA06-5E6A-4D99-A150-05427FD3E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65C7-BC27-4736-B6C2-53AFC6C4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2790-5286-469D-BF00-1CE68C8C8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5CA-6198-4766-8748-2D12BAF8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233-4CCE-4A38-97F9-29DF15D5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A9E-1D5E-40BE-B39B-1FBB73EF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07E-5900-4ECC-BACE-11306B5B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1A5C-84A5-4ED0-9739-B644C39B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25A0-CF1B-4D24-9B50-32958D2B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CF03-9FFE-47C1-A16B-CAF4A690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0E36-940A-4B8B-8E39-43CDD084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97C1-4016-4CB2-9E39-469D5BA9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CA2A-B4E5-4F02-82F3-BEE98E6F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70A5-E1C0-493F-8FE2-D226B503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23C-D263-4C13-A807-30A978A0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61F2-D5C1-43A5-8A6D-29AFA0BC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4B86-9319-40B0-ADA3-05DC4C7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D585-F41A-43FC-A05A-DECA926A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8338-9F2B-4BD5-A536-B9EB7493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8AD3-42B6-4671-8EF1-D51DD531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0A0-FCEE-4DCE-B4F4-7DCAD37B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903-1106-477E-82FB-067188BA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76E-CC7E-4E2B-8835-EBC0C196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2CD-F434-4D26-8A6D-8F991782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26D-2683-4946-BBB5-3E147C98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BF5-90B2-4136-B4AD-01A47566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593-966F-4438-9E59-6D5AD947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3DBA-BAD2-4FEB-ADB3-5B58982B3349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10A5-58BD-43EF-BC89-B6CB059A00E3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HIV Care 2010:</a:t>
            </a:r>
            <a:br>
              <a:rPr sz="6000"/>
            </a:b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The 3</a:t>
            </a:r>
            <a:r>
              <a:rPr b="0" i="1" lang="en-US" sz="6000" spc="-1" strike="noStrike" baseline="30000">
                <a:solidFill>
                  <a:srgbClr val="996633"/>
                </a:solidFill>
                <a:latin typeface="Times New Roman"/>
              </a:rPr>
              <a:t>rd</a:t>
            </a: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 Revolution in HIV treatment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11,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-360"/>
            <a:ext cx="7564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US AIDS Cases and Death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0" y="711360"/>
          <a:ext cx="9144000" cy="60958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1136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2n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Restoring the damaged immune system,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Improving health of HIV+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: lamivudine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: saquinavir approved as first prote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: nevirapine approved as first non-nuke d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: ritonavir, indinavir approv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3r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venting immune related damag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, 06: Darunavir, protease inhibitor with efficacy against highly PI-resistant virus,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, 07: Maravaroc, first CCR5 co-receptor blocke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07: Raltegravir, first integrase inhibito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08: Etravirine, firs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ion non-nukes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3r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venting immune related damag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, 09: DHHS revises guidelines on when to start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2009 guidelin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, 2006: Darunavir, protease inhibitor with efficacy against highly PI-resistant virus,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, 07: Maravaroc, first CCR5 co-receptor blocke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07: Raltegravir, first integrase inhibito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08: Etravirine, firs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ion non-nukes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darun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Prezista (darunavir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prote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1 tablet (600 mg) twice a day with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ake with 1 tablet Norvir (ritonavir 100mg) twice a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Works against protease inhibitor resistant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rash, abd pain, constipation, heada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1676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maraviroc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elzentry (maraviroc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CCR5 co-receptor blo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ake 1 tablet (300mg) with or without food twice a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0mg bid c ritonavir boosted protease inhib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00 mg bid c etravarine or efava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0 mg bid c ritonavir and etrava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ose adjustment also needed with clarithromycin, i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010280" y="5562720"/>
            <a:ext cx="1447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maraviroc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elzentry (maraviroc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CCR5 co-receptor blo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CCR5 tropism assay to see if will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80% of treatment experienced patients with Tcells&lt;100 have CXCR4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uncommon: cough 5-10%, dizziness, fever, rare liver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0" y="5562720"/>
            <a:ext cx="1447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earning Objectiv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familiar with recent advances in anti-HIV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the new threshold for initiating HIV treatment according to the December, 2009 DHHS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discuss the reasons for these more aggressive treatment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HIV tropism assa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706400"/>
            <a:ext cx="4633920" cy="515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8320" y="1143000"/>
            <a:ext cx="434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raltegr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Isentress (raltegravir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integr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 tablet (400 mg) twice a day with or without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uncommon: nausea, dizz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Avoid dosing with metal ions (calcium, ant-aci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44792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raltegr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447920" cy="992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5800" y="1508040"/>
            <a:ext cx="8458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etravirin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lence (etravirin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non-nucleoside reverse transcript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 tablets (100 mg each) twice a day with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Effective agains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gen NNRTI resistant virus (K103N, Y181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10-18% of men and 34% women get transient 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Contraindicated with atazanavir, fosamprenavir, tipranavir (levels markedly incr or dec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052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0666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New drugs darunavir and raltegravir move into preferred first line therapy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ptions for Once-daily Therap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s with evidence of QD effica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FT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I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562720" y="2666880"/>
            <a:ext cx="358128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V/rt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V/rt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-AMP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V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PV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48320" y="3505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6633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600200" y="6095880"/>
            <a:ext cx="3809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46720" y="5943600"/>
            <a:ext cx="66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*indicates preferred regimen for initial therapy, DHHS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Most patients can control their viru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447920" y="1546200"/>
            <a:ext cx="76960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creased recognition of harms of uncontrolled viral repl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ion of liver disease in Hep B/C co-in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risk of many different 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ed atheroscle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S dys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ise, fatigue, lipodystro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creased recognition of harms of uncontrolled viral repl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7696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D. T. is a 51 y.o. woman diagnosed HIV+ in 1994 with T cells=232 at tha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history of antiviral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A-ACCORD analysi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17,517 asymptomatic HIV+ US and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retroviral na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mortality between those starting ART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350 (deferred)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350-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&gt;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,Bold"/>
              </a:rPr>
              <a:t>Kitahata, NEJM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A-ACCORD analysis: Retrospective case control stud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Black"/>
              </a:rPr>
              <a:t>Higher risk of death in deferred ART group vs &gt;350 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 &lt;350 vs 350-500 N=83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risk 1.69 (95% CI 1.26-2.26)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 &lt;500 vs &gt;500 N=9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risk 1.94 (95% CI 1.37-2.79)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redictors of mortality: older age, injection drug use and H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79680" y="-3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n to Start Consortium: Prospective case matched stud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09480" y="1211400"/>
            <a:ext cx="85345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n to Start Consortiu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800100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1859040"/>
            <a:ext cx="76201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828800"/>
            <a:ext cx="769608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Black"/>
              </a:rPr>
              <a:t>Model for Elimination of HIV Trans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d epidemic in South Africa (17% prevalenc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model to predict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aged 15 and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HIV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for all newly identified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infectiousness falls to 1% of pre-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elimination defined as reduction in incidence &lt;1/1000     people/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ich, Lancet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20760" y="1752480"/>
            <a:ext cx="7923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173240" y="1752480"/>
            <a:ext cx="7970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viral Hi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ke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dovudine, lamivudine, stavudi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anosine, abac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nuke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ira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1981080"/>
            <a:ext cx="777240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Black"/>
              </a:rPr>
              <a:t>Universal HIV testing and immediate ART combined with other prevention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reduction in new HIV cases in 1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idence reduced from 15-20,000 to 1000 per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alence less than 1% by 2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esources higher but over time, given the reduction in HIV incidence, this approach may provide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costs are within UNAIDS estimates for Universal Access for a population this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/Phenotype testing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nukes except tenofo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. non-nu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I mutations, resistant to all protease inhibitors unless boosted with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, 200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=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NA = 6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ialysis for HIV 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absolutely refuses to take even the lowest dose of ritonavir due to diarrhea and nau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looking at the Norvir pill makes me vo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on tenofovir/lamivudine, etravarine, raltegr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tes well with no noticeable 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month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ells= 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l load &lt;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month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ells= 3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l load &lt;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n UCSF transplant program, awaiting donation of living related donor kidney (cous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It’s an infection, stupid, so treat it!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76201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996633"/>
                </a:solidFill>
                <a:latin typeface="Palatia"/>
              </a:rPr>
              <a:t>Hope!</a:t>
            </a:r>
            <a:endParaRPr b="0" i="1" lang="en-US" sz="9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9" name="Picture 3" descr="C:\Documents and Settings\All Users\Documents\My Pictures\2005\2005-08-13 Summer Vacation\2005-08-13 summer vacation 008.jpg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viral Hi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ase inhibitor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quinavir, indinavir, nelfinavir, ritonavir, amprenavir, lopinavir, azatanavi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l agent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xy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/Phenotype testing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nukes except tenofo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non-nu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I mutations, resistant to all protease inhibitors unless boosted with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, 200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=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NA = 6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ialysis for HIV 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absolutely refuses to take even the lowest dose of ritonavir due to diarrhea and nau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looking at the Norvir pill makes me vo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9680" y="-360"/>
            <a:ext cx="7564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first revolution in HIV care: Slowing the damage to the immune function, delaying death from AIDS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7:AZT (zidovudine) becomes the first FDA-approved anti-HIV d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FDA approves aerosolized pentamidine for PCP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CDC recommends use of TMP/SMZ (Septra/Bactrim) for PCP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P prophylaxis adds 2 years to HIV+ pt lifes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:DDI (didanosine)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3:38:31Z</dcterms:created>
  <dc:creator>Chris</dc:creator>
  <dc:description/>
  <dc:language>en-US</dc:language>
  <cp:lastModifiedBy>Administrator</cp:lastModifiedBy>
  <dcterms:modified xsi:type="dcterms:W3CDTF">2010-02-09T19:07:13Z</dcterms:modified>
  <cp:revision>25</cp:revision>
  <dc:subject/>
  <dc:title>HIV Care 2006 Update on Epidemiology and New Therapeutic approaches</dc:title>
</cp:coreProperties>
</file>